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50080"/>
            <a:ext cx="29718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4400" y="8650080"/>
            <a:ext cx="29718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F3BC-E855-4C6A-BF41-D413CA3F4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884400" y="8650080"/>
            <a:ext cx="29718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CE8BE-A4A9-4CDC-8D92-48D7B28D1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-360" y="8650080"/>
            <a:ext cx="29718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347840" y="911160"/>
            <a:ext cx="4164120" cy="31226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045800" y="4335480"/>
            <a:ext cx="4770360" cy="346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884400" y="8650080"/>
            <a:ext cx="29718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E9B21-670E-4255-80D7-E550B34A0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-360" y="8650080"/>
            <a:ext cx="29718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347840" y="911160"/>
            <a:ext cx="4164120" cy="31226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1045800" y="4335480"/>
            <a:ext cx="4770360" cy="346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884400" y="8650080"/>
            <a:ext cx="29718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54061-877E-4F02-8ADB-C51D9BF44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-360" y="8650080"/>
            <a:ext cx="29718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347840" y="911160"/>
            <a:ext cx="4164120" cy="31226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1045800" y="4335480"/>
            <a:ext cx="4770360" cy="346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view jobs.   Scroll to the bottom of the list -  Newest ticket will be at the bottom of the list. Click on ticket to open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s made in the top white portion – save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ts added in the bottom gray area – add e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3963-5889-4A07-A26A-8E5DB12B2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F4FE-36BE-489E-9B9B-799A6CE87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ED6E-5BC5-4942-8538-A624BBAD6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A48B-19C1-482A-A81A-A48FBB579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15EAD-7F59-4268-8467-C31A2934A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3AB8A-817E-4FC3-97EC-4273B3297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38C95-4EC9-4DAC-B349-B6C745282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4454D-B8AB-4CB9-BCC9-A14969757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BA915-9F1F-4FB2-9A3B-4F4D00EF2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5F543-432E-4DE3-825B-79893A8DF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7C6EE-D5DD-499F-8701-9F83EEBC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1FA4-B53D-4FDC-9A57-83095B1F0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7564F-5BB9-46A5-A8DF-7F9F4576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1B670-CA2C-4E19-99F8-A4A69095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4EE64-7BD3-47DA-9A5D-0E46BC7E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6C427-2454-4C1B-AE2C-F6482EDF4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6DE19-4321-4E52-9A90-8DA235745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941C-0098-4183-9E32-6930E443A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924A-8B4E-42C4-AB36-5C155BA35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4EB5-7A92-4002-84E6-B006122C4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EA9F-C566-44A3-B61F-DCB2EFBB9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4A23-4EE1-4083-9452-15E4ECAA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DF0B-1136-4539-9166-316AFF91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945A-90F7-4DDA-8AFD-3B247B63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E9008-C346-4B54-AC89-CA0225F48EA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B50A3-8DDF-4DAD-8990-33BCC2D0E2D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ds.yahoo.com/S=96062883/K=olympic+rings/v=2/SID=e/l=IVI/*-http://www.cobb.k12.ga.us/~smitha/eeiweb/Olympic%20Web/olympic-rings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rds.yahoo.com/S=96062883/K=olympic+rings/v=2/SID=e/l=IVI/*-http://www.cobb.k12.ga.us/~smitha/eeiweb/Olympic%20Web/olympic-rings.jpg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38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Helpdesk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384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2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2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eb based “ticket” database for tracking support cal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2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600" spc="-1" strike="noStrike" u="sng">
                <a:solidFill>
                  <a:srgbClr val="000000"/>
                </a:solidFill>
                <a:uFillTx/>
                <a:latin typeface="Arial"/>
              </a:rPr>
              <a:t>official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record of your TAG wor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2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earchable and ever growing KPS specific knowledge base when troubleshoot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2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t's the Technology Services support “todo” lis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2920" y="5867280"/>
            <a:ext cx="1666800" cy="67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59436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7315200" y="487692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38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Helpdesk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384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2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y use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2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t's the official record of your TAG time (the electronic “TAG Log”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2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aster answers by searching and properly assigning ticke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2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ocumentation trai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952880" y="3733920"/>
            <a:ext cx="1868760" cy="28731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162920" y="5867280"/>
            <a:ext cx="1666800" cy="67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What NOT to put in the Helpdesk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ne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el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thing not computer technology rel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sically, if you wouldn’t call Technology Services about it, don’t put it in the Helpdes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WS &amp; MUNIS/4Js Issues – Call 7-014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162920" y="5867280"/>
            <a:ext cx="166680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38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Helpdesk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384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2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2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pen your web brows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2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ype: helpdes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2000"/>
              </a:lnSpc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Helpdesk.kalamazoo.k12.mi.u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2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ress: en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 algn="ctr">
              <a:lnSpc>
                <a:spcPct val="102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162920" y="5867280"/>
            <a:ext cx="1666800" cy="67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229600" cy="60958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286000" y="2362320"/>
            <a:ext cx="152280" cy="228600"/>
          </a:xfrm>
          <a:prstGeom prst="upArrow">
            <a:avLst>
              <a:gd name="adj1" fmla="val 50000"/>
              <a:gd name="adj2" fmla="val 3753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59436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038480" y="5410080"/>
            <a:ext cx="3049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8229600" cy="55627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666880" y="2514600"/>
            <a:ext cx="228600" cy="457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267080" y="1752480"/>
            <a:ext cx="1447920" cy="60984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229600" cy="6248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5" name=""/>
          <p:cNvSpPr/>
          <p:nvPr/>
        </p:nvSpPr>
        <p:spPr>
          <a:xfrm>
            <a:off x="5181480" y="2133720"/>
            <a:ext cx="533520" cy="228600"/>
          </a:xfrm>
          <a:prstGeom prst="leftArrow">
            <a:avLst>
              <a:gd name="adj1" fmla="val 50000"/>
              <a:gd name="adj2" fmla="val 58346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772400" y="495288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676520" y="441972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1T12:12:59Z</dcterms:created>
  <dc:creator>Tony Gettig</dc:creator>
  <dc:description/>
  <dc:language>en-US</dc:language>
  <cp:lastModifiedBy>Barb Smalla</cp:lastModifiedBy>
  <dcterms:modified xsi:type="dcterms:W3CDTF">2006-01-26T17:05:16Z</dcterms:modified>
  <cp:revision>51</cp:revision>
  <dc:subject/>
  <dc:title>Welcome to TAG 2003-2004!</dc:title>
</cp:coreProperties>
</file>